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DCD-908F-4B23-8650-0489AC15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FEE-C354-4386-973C-162F44FC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E37-2EA4-495B-8437-8F19A371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89D-01BF-4D32-B522-49E21BD2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79D1-4E1E-47C9-8E60-B86A84DB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FD83-62C7-4271-B186-A66A0085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7E55-EFD5-4035-AC53-9C6C8223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AC5C-FEF7-4355-A9A5-56ED185A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2856-13A2-4C36-AEEE-1B0DF68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A65A-02B6-43E5-A4EE-A7DF6445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1215-E4FA-4405-B270-7665D3F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28A-F411-4D6B-A773-5AD49BC1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1317-D33A-4BE4-8932-12428385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7598-30FE-4FA6-B1AE-007B962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5C58-1F62-4185-83ED-0DAB5286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B108-E949-45A7-95BC-8EA5086C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D7E2-EC40-4B89-8F98-80274B1E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67CD-F053-48A0-ACC4-846DF6BE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005B-5D5D-4C06-A99E-B9A3E7A5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067E-2085-4EDF-93E6-FDCF08C0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CB52-DA60-4580-80AF-4460EE22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312C-9D1A-4D93-8A5A-13B391D5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49A-D90C-4644-961F-AF17E7A8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E2CB-0D14-4713-BDC3-6E1C254D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BF05-4BF7-4561-8BE4-089F07CD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FDB2-0AF6-4E7E-9D7D-10602D71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A8AC-A9CC-413C-A358-6AEA641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DDD15-8AA7-49D6-AC8F-024F1FA9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68C9-7746-414D-8891-222E55C4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C372-548E-4C56-AFA9-00FA80C1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3E29-6426-470A-8389-A9F2339A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3AEE0-623D-4A0E-911E-0247CBE0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919C-419A-4FC3-A7B5-128BA1F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345-A301-47D2-B8AE-E6BC410B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90D89-C129-4AB8-BC26-781D3BED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7E29-44E1-477A-8B41-50DF8572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0CD8-5204-47B4-BF32-931D6188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0843-3B92-4E4A-BD6A-5A31AE8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0878-1088-4CAF-B701-B5EB98AF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4442-7F14-47C0-A447-77BACC05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D77A-9DBE-4594-BF65-A969DA07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E6B29-08DF-46A2-AFF6-278CF0C0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9D8A-314F-4430-BF26-2D40C7C0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B8C-7A7F-42C5-A1F0-652E0C79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4B3-AF7D-43DF-A612-70BD5F0A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4CF-2BE9-46B7-8D7A-AF223A8F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BBD-758F-4E66-9352-F8A15D3B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DA5-C2B1-4AE5-A79B-6CCF995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2C7A-91AE-446D-AEDD-776F442C28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BBFB-A57A-46AE-977B-675D54B45FC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172A-F80C-43B2-A7DD-B5E55FEE95F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BE57-C50B-4000-BCC0-392F7494E53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96680" y="3429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642960" y="1204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 + 5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3886200" y="1905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 + 3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3659040" y="5318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5 = 3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5478480" y="46562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3 = 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380880" y="2620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5 = 3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232416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5 = 3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4419720" y="3581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 + 3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6400800" y="1204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 + 3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361800" y="46562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3 = 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3537000" y="558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8 - 3 = 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2324160" y="26384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 + 5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6934320" y="5318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 + 5 =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Fact Famil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Fact Family is a set of related fact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math this means 3 numbers that are related in some w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other numbers can be included in the fami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ink About Fact Families as a real famil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ddy – Biggest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mmy – Middle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by – Smallest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954680" y="5006880"/>
            <a:ext cx="1554120" cy="1602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Owner\AppData\Local\Microsoft\Windows\Temporary Internet Files\Content.IE5\6AO2PPGB\MC900445992[2].wmf"/>
          <p:cNvPicPr/>
          <p:nvPr/>
        </p:nvPicPr>
        <p:blipFill>
          <a:blip r:embed="rId2"/>
          <a:stretch/>
        </p:blipFill>
        <p:spPr>
          <a:xfrm>
            <a:off x="5680080" y="1903320"/>
            <a:ext cx="1393920" cy="1433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Users\Owner\AppData\Local\Microsoft\Windows\Temporary Internet Files\Content.IE5\6AO2PPGB\MC900347411[2].wmf"/>
          <p:cNvPicPr/>
          <p:nvPr/>
        </p:nvPicPr>
        <p:blipFill>
          <a:blip r:embed="rId3"/>
          <a:stretch/>
        </p:blipFill>
        <p:spPr>
          <a:xfrm>
            <a:off x="7315200" y="3036960"/>
            <a:ext cx="1163520" cy="181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s look at some example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, 9, 1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, 2, 8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5, 7, 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do you relate the numbers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th each family you can produce 4 math senten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add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 + ____ = ____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 + ____ = ____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subtr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 - ____ = ____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 - ____ = ____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:  5, 3,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anyone make me 2 addition sentences with these numbers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+ 5 = 8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 + 3 = 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used the same two numbers as the addends, we just used what is called turning around the fact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:  5, 3, 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 anyone make me 2 subtraction sentences with these numbers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 - 5 = 3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 - 3 =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ow put it all together and you have your fact family.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pSp>
        <p:nvGrpSpPr>
          <p:cNvPr id="226" name="Rectangle 3"/>
          <p:cNvGrpSpPr/>
          <p:nvPr/>
        </p:nvGrpSpPr>
        <p:grpSpPr>
          <a:xfrm>
            <a:off x="2828880" y="2822400"/>
            <a:ext cx="3651120" cy="3303720"/>
            <a:chOff x="2828880" y="2822400"/>
            <a:chExt cx="3651120" cy="3303720"/>
          </a:xfrm>
        </p:grpSpPr>
        <p:pic>
          <p:nvPicPr>
            <p:cNvPr id="227" name="Rectangle 3" descr=""/>
            <p:cNvPicPr/>
            <p:nvPr/>
          </p:nvPicPr>
          <p:blipFill>
            <a:blip r:embed="rId2"/>
            <a:stretch/>
          </p:blipFill>
          <p:spPr>
            <a:xfrm>
              <a:off x="2828880" y="2822400"/>
              <a:ext cx="365112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898720" y="2971800"/>
              <a:ext cx="350532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3 + 5 = 8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5 + 3 = 8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8 – 5 = 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8 – 3 = 5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9" name="Isosceles Triangle 4"/>
          <p:cNvGrpSpPr/>
          <p:nvPr/>
        </p:nvGrpSpPr>
        <p:grpSpPr>
          <a:xfrm>
            <a:off x="2859120" y="1573200"/>
            <a:ext cx="3578040" cy="1504800"/>
            <a:chOff x="2859120" y="1573200"/>
            <a:chExt cx="3578040" cy="1504800"/>
          </a:xfrm>
        </p:grpSpPr>
        <p:pic>
          <p:nvPicPr>
            <p:cNvPr id="230" name="Isosceles Triangle 4" descr=""/>
            <p:cNvPicPr/>
            <p:nvPr/>
          </p:nvPicPr>
          <p:blipFill>
            <a:blip r:embed="rId3"/>
            <a:stretch/>
          </p:blipFill>
          <p:spPr>
            <a:xfrm>
              <a:off x="2859120" y="1573200"/>
              <a:ext cx="357804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790800" y="2289240"/>
              <a:ext cx="17146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nstantia"/>
                </a:rPr>
                <a:t>5, 3, 8 </a:t>
              </a:r>
              <a:endParaRPr b="0" lang="en-US" sz="4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1T21:12:30Z</dcterms:created>
  <dc:creator>Owner</dc:creator>
  <dc:description/>
  <dc:language>en-US</dc:language>
  <cp:lastModifiedBy>JonathanBYGODPhillip</cp:lastModifiedBy>
  <dcterms:modified xsi:type="dcterms:W3CDTF">2010-12-06T10:40:32Z</dcterms:modified>
  <cp:revision>16</cp:revision>
  <dc:subject/>
  <dc:title>Fact Families</dc:title>
</cp:coreProperties>
</file>